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F6F-608D-4B67-904E-059C5C61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F12-51AA-4B3E-ABF8-5154CD84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DDE-551F-4C4C-BB31-A94F0E49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B2C-8EA0-4A07-9C6F-03C4A272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C619-B022-444B-904B-FEE7A47B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AAAA-B152-4B5C-8B25-D2C85DA3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9FBF-3A7A-484F-A77D-3336F423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F9F4-A45C-41D8-B9B8-18C96F8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56DD-1AC7-4BA5-AC6B-93C5EDEB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F745-3C4E-485D-B7AA-52B69E9A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54B6-1FA1-4E56-AE83-9CB96378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68F-B40F-4C2F-BD93-31162773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9A4B-A2BA-442E-B84F-A9727CE2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815A-3ACD-4AE2-868B-412AE99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8231-35F0-4AC9-B545-8729BA50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D87E-87C5-4E72-A3BE-C290705E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E1E5-0243-44CB-87CD-DCDB68D2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0719-A29E-490F-A46A-A7FF9F9F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C3CB-9141-41AB-A580-CB83C1A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BE34-0A8F-48E9-BA70-A12ADDA6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4089C-1440-4EB2-B77D-C13B9B17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255D-5164-4907-9BC2-6804858B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447-28AD-494D-9F2C-1D0EC170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1224-103D-41EA-9B58-6BA69841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3A26-54AF-4020-AD89-4A2411F9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6579-B0AC-49CD-9491-90A9BB1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7E41-09F1-449C-8F8A-0854F6A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F48B-BA56-4BCB-99A9-BE9B4ED4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8911-7607-4BD1-8538-BD8D1719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1732-0B6A-4E37-80B5-85540393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2273-620F-4124-A3D7-DB1208DA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C0BE-A4BB-4F2B-B597-5C5E8954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7326-E03B-4DCF-8A70-584DBFD2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B8B-5237-4180-A56F-A3638BAB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EA58-A3D6-41BA-9FC5-E55A4BBA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D226C-1285-4E9A-A43D-C30E032A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C204-FFE1-4176-ABBF-38CEC774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CA7DF-E84A-4B17-8ED8-4F222CD9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ADAC1-796F-4EBD-ADF9-CAFB791A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39EB-54AC-4749-8003-833340E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5124-6690-4856-AF28-6378D1E9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43AA-78B2-44C9-9E9D-C8B445AE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EF419-262E-4A57-806E-107403DB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E93-EA51-4256-815F-CB466E66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B89-61A8-44BF-9E38-FB95FF94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33E-E54B-4AAF-ACED-265B3374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320-F53B-4416-8C17-32F44EEB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B5E-F4BD-4129-907E-F9B3692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B68E-A333-4979-B3AF-B3E16735C6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E5C-1B7A-4E5B-BF74-6DF7974C87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748D-950F-4DD0-B396-DFF51F2761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1A8-2532-4A26-8A5A-D76DB59D2B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urning Poin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dustrial Revolu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&amp;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extile Industry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228600" y="1981080"/>
            <a:ext cx="3657600" cy="1143000"/>
          </a:xfrm>
          <a:prstGeom prst="rightArrowCallout">
            <a:avLst>
              <a:gd name="adj1" fmla="val 25002"/>
              <a:gd name="adj2" fmla="val 25000"/>
              <a:gd name="adj3" fmla="val 53333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lying Shutt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Kay) 17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962520" y="1981080"/>
            <a:ext cx="3657600" cy="1143000"/>
          </a:xfrm>
          <a:prstGeom prst="rightArrowCallout">
            <a:avLst>
              <a:gd name="adj1" fmla="val 25002"/>
              <a:gd name="adj2" fmla="val 25000"/>
              <a:gd name="adj3" fmla="val 53333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pinning Jen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Hargreaves) 17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 rot="5400000">
            <a:off x="6438240" y="3314520"/>
            <a:ext cx="3657600" cy="1143000"/>
          </a:xfrm>
          <a:prstGeom prst="rightArrowCallout">
            <a:avLst>
              <a:gd name="adj1" fmla="val 25002"/>
              <a:gd name="adj2" fmla="val 25000"/>
              <a:gd name="adj3" fmla="val 53333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ater-Pow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Loom – Cart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8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4267080" y="5181480"/>
            <a:ext cx="3429000" cy="1371600"/>
          </a:xfrm>
          <a:prstGeom prst="leftArrowCallout">
            <a:avLst>
              <a:gd name="adj1" fmla="val 25002"/>
              <a:gd name="adj2" fmla="val 25000"/>
              <a:gd name="adj3" fmla="val 41667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eed More 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93 Eli Whitney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tton 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0" y="5105520"/>
            <a:ext cx="4038480" cy="1447560"/>
          </a:xfrm>
          <a:prstGeom prst="leftArrowCallout">
            <a:avLst>
              <a:gd name="adj1" fmla="val 25002"/>
              <a:gd name="adj2" fmla="val 25000"/>
              <a:gd name="adj3" fmla="val 46498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dia’s Marke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ot Keep Up – 184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uy from Am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457200" y="3733920"/>
            <a:ext cx="7029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ed to Clothe the New Numbers of Naked People</a:t>
            </a:r>
            <a:endParaRPr b="0" lang="en-US" sz="28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Scramble for Africa"/>
          <p:cNvPicPr/>
          <p:nvPr/>
        </p:nvPicPr>
        <p:blipFill>
          <a:blip r:embed="rId1"/>
          <a:stretch/>
        </p:blipFill>
        <p:spPr>
          <a:xfrm>
            <a:off x="1905120" y="3471840"/>
            <a:ext cx="5495760" cy="3386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56960"/>
            <a:ext cx="2607840" cy="126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America uses more slaves to keep up with labor demands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4876920" y="228600"/>
            <a:ext cx="3733560" cy="1112760"/>
          </a:xfrm>
          <a:prstGeom prst="rightArrowCallout">
            <a:avLst>
              <a:gd name="adj1" fmla="val 25002"/>
              <a:gd name="adj2" fmla="val 25000"/>
              <a:gd name="adj3" fmla="val 55920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America has civil war over abuse of slav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4495680" y="1752480"/>
            <a:ext cx="4267440" cy="1600200"/>
          </a:xfrm>
          <a:prstGeom prst="leftArrowCallout">
            <a:avLst>
              <a:gd name="adj1" fmla="val 25002"/>
              <a:gd name="adj2" fmla="val 25000"/>
              <a:gd name="adj3" fmla="val 44447"/>
              <a:gd name="adj4" fmla="val 741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urope can not get cot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uring civil war 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o Africa (Egy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228600" y="1828800"/>
            <a:ext cx="4191120" cy="1447920"/>
          </a:xfrm>
          <a:prstGeom prst="leftArrowCallout">
            <a:avLst>
              <a:gd name="adj1" fmla="val 25002"/>
              <a:gd name="adj2" fmla="val 25000"/>
              <a:gd name="adj3" fmla="val 48243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cramble for Afric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ivide up 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 18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3" name="Content Placeholder 54274"/>
          <p:cNvGrpSpPr/>
          <p:nvPr/>
        </p:nvGrpSpPr>
        <p:grpSpPr>
          <a:xfrm>
            <a:off x="186480" y="1656360"/>
            <a:ext cx="8401680" cy="4476240"/>
            <a:chOff x="186480" y="1656360"/>
            <a:chExt cx="8401680" cy="4476240"/>
          </a:xfrm>
        </p:grpSpPr>
        <p:cxnSp>
          <p:nvCxnSpPr>
            <p:cNvPr id="304" name="_s2052"/>
            <p:cNvCxnSpPr>
              <a:stCxn id="305" idx="1"/>
              <a:endCxn id="306" idx="2"/>
            </p:cNvCxnSpPr>
            <p:nvPr/>
          </p:nvCxnSpPr>
          <p:spPr>
            <a:xfrm rot="10800000">
              <a:off x="4408200" y="5044680"/>
              <a:ext cx="315000" cy="624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7" name="_s2053"/>
            <p:cNvCxnSpPr>
              <a:stCxn id="306" idx="1"/>
              <a:endCxn id="308" idx="2"/>
            </p:cNvCxnSpPr>
            <p:nvPr/>
          </p:nvCxnSpPr>
          <p:spPr>
            <a:xfrm rot="10800000">
              <a:off x="2033280" y="4157280"/>
              <a:ext cx="316800" cy="525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9" name="_s2054"/>
            <p:cNvCxnSpPr>
              <a:stCxn id="308" idx="0"/>
              <a:endCxn id="310" idx="2"/>
            </p:cNvCxnSpPr>
            <p:nvPr/>
          </p:nvCxnSpPr>
          <p:spPr>
            <a:xfrm flipH="1" flipV="1" rot="5400000">
              <a:off x="3129120" y="2247120"/>
              <a:ext cx="162720" cy="2353680"/>
            </a:xfrm>
            <a:prstGeom prst="bentConnector3">
              <a:avLst>
                <a:gd name="adj1" fmla="val 4988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11" name="_s2055"/>
            <p:cNvCxnSpPr>
              <a:stCxn id="310" idx="0"/>
              <a:endCxn id="312" idx="2"/>
            </p:cNvCxnSpPr>
            <p:nvPr/>
          </p:nvCxnSpPr>
          <p:spPr>
            <a:xfrm flipV="1">
              <a:off x="4386960" y="2240280"/>
              <a:ext cx="2880" cy="1612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12" name="_s2056"/>
            <p:cNvSpPr/>
            <p:nvPr/>
          </p:nvSpPr>
          <p:spPr>
            <a:xfrm>
              <a:off x="2491200" y="1656360"/>
              <a:ext cx="3791880" cy="58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Water Power Limited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2057"/>
            <p:cNvSpPr/>
            <p:nvPr/>
          </p:nvSpPr>
          <p:spPr>
            <a:xfrm>
              <a:off x="3328200" y="2402640"/>
              <a:ext cx="2117880" cy="94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Turn to Coal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&amp; Steam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2058"/>
            <p:cNvSpPr/>
            <p:nvPr/>
          </p:nvSpPr>
          <p:spPr>
            <a:xfrm>
              <a:off x="186480" y="3505320"/>
              <a:ext cx="3695040" cy="65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ames Wat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eam Engine 17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2059"/>
            <p:cNvSpPr/>
            <p:nvPr/>
          </p:nvSpPr>
          <p:spPr>
            <a:xfrm>
              <a:off x="2350440" y="4320000"/>
              <a:ext cx="4112640" cy="72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814 Steam Powered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rain to get more co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2060"/>
            <p:cNvSpPr/>
            <p:nvPr/>
          </p:nvSpPr>
          <p:spPr>
            <a:xfrm>
              <a:off x="4723560" y="5206680"/>
              <a:ext cx="3864600" cy="92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rbanization –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 have to be alo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ivers any m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Oval 2"/>
          <p:cNvSpPr/>
          <p:nvPr/>
        </p:nvSpPr>
        <p:spPr>
          <a:xfrm>
            <a:off x="3505320" y="1600200"/>
            <a:ext cx="2438280" cy="2286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1409760" y="3809880"/>
            <a:ext cx="2095560" cy="457200"/>
          </a:xfrm>
          <a:prstGeom prst="borderCallout1">
            <a:avLst>
              <a:gd name="adj1" fmla="val 18750"/>
              <a:gd name="adj2" fmla="val -8333"/>
              <a:gd name="adj3" fmla="val -16666"/>
              <a:gd name="adj4" fmla="val 12545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1752480" y="4952880"/>
            <a:ext cx="129564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76720" y="5867280"/>
            <a:ext cx="91440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380880" y="5715000"/>
            <a:ext cx="1219320" cy="91440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ur discovers g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6781680" y="800280"/>
            <a:ext cx="1600200" cy="118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29" y="20206"/>
                </a:moveTo>
                <a:lnTo>
                  <a:pt x="-1029" y="2090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Labor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ldren &amp;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7086600" y="2743200"/>
            <a:ext cx="914400" cy="60948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6019920" y="3809880"/>
            <a:ext cx="99036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4495680" y="533520"/>
            <a:ext cx="1600200" cy="60948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inism (suff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1"/>
          <p:cNvSpPr/>
          <p:nvPr/>
        </p:nvSpPr>
        <p:spPr>
          <a:xfrm>
            <a:off x="6553080" y="5181480"/>
            <a:ext cx="144792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737" y="-64800"/>
                </a:moveTo>
                <a:lnTo>
                  <a:pt x="22737" y="2314"/>
                </a:lnTo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es Dickens/ Karl 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2"/>
          <p:cNvSpPr/>
          <p:nvPr/>
        </p:nvSpPr>
        <p:spPr>
          <a:xfrm flipH="1">
            <a:off x="4572000" y="4952880"/>
            <a:ext cx="1447920" cy="8384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48 Rev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een Revolution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nge in Plan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3434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40s – India and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s:  Bengal Famine (1943) – 4 million people died (cash crop economies), not enough food to feed increasing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:  new technology (irrigation systems, cloning, genetically modified foods, herbicides, pesticides), increased food outputs; lower bio-diversity, shifting w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tcol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olitical Revolu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3152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Glorious Revolution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hange from somewhat absolutism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titutional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monarchy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88 –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:  monarchs becoming increasingly absolutist despi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gna Car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215)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lia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trolled ta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0040" indent="-2289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ames I thought he ruled by divine righ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70040" indent="-2289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arles I disbanded Parliament after agreeing to “Petition of Rights” to get money and then ripping it up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70040" indent="-2289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ivil war – King vs. Parliament (headed by Oliver Cromwell) – Charles I beheaded, Cromwell creates commonweal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70040" indent="-2289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arles II restored to power – no he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II new monarch – but Catholic – protestant Parliament refuse to recognize James II’s son as heir – he disbands parli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iament asks William and Mary of Orange to take over government, James II flees (bloodless c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William and Mary grant parliament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glish Bill of Righ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rench Revolution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hange from absolutism to constitutional monarch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2" name="Picture 4" descr="liberty"/>
          <p:cNvPicPr/>
          <p:nvPr/>
        </p:nvPicPr>
        <p:blipFill>
          <a:blip r:embed="rId1"/>
          <a:stretch/>
        </p:blipFill>
        <p:spPr>
          <a:xfrm>
            <a:off x="3962520" y="2057400"/>
            <a:ext cx="4410000" cy="34606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685800" y="2133720"/>
            <a:ext cx="3276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89-17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:  absolutism of Louis XVI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erican and English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, enlightened philosophers, economic disaster (wars, Palace of Versailles), Estates General disbanded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ate – all tax, no re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766320" y="3059280"/>
            <a:ext cx="1760400" cy="1365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Pattern o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825480" y="3848040"/>
          <a:ext cx="1981080" cy="15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3848040"/>
                    <a:ext cx="19810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8" name="Group 5"/>
          <p:cNvGrpSpPr/>
          <p:nvPr/>
        </p:nvGrpSpPr>
        <p:grpSpPr>
          <a:xfrm>
            <a:off x="1447920" y="914400"/>
            <a:ext cx="5790240" cy="5180760"/>
            <a:chOff x="1447920" y="914400"/>
            <a:chExt cx="5790240" cy="5180760"/>
          </a:xfrm>
        </p:grpSpPr>
        <p:sp>
          <p:nvSpPr>
            <p:cNvPr id="339" name="AutoShape 6"/>
            <p:cNvSpPr/>
            <p:nvPr/>
          </p:nvSpPr>
          <p:spPr>
            <a:xfrm flipH="1">
              <a:off x="1447920" y="914400"/>
              <a:ext cx="5790240" cy="5180760"/>
            </a:xfrm>
            <a:custGeom>
              <a:avLst/>
              <a:gdLst>
                <a:gd name="textAreaLeft" fmla="*/ 849600 w 5790240"/>
                <a:gd name="textAreaRight" fmla="*/ 4940640 w 5790240"/>
                <a:gd name="textAreaTop" fmla="*/ 760320 h 5180760"/>
                <a:gd name="textAreaBottom" fmla="*/ 4420440 h 51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99" y="2700"/>
                  </a:moveTo>
                  <a:cubicBezTo>
                    <a:pt x="8207" y="2700"/>
                    <a:pt x="5771" y="3941"/>
                    <a:pt x="4246" y="6038"/>
                  </a:cubicBezTo>
                  <a:lnTo>
                    <a:pt x="2062" y="4451"/>
                  </a:lnTo>
                  <a:cubicBezTo>
                    <a:pt x="4094" y="1655"/>
                    <a:pt x="7342" y="0"/>
                    <a:pt x="10799" y="0"/>
                  </a:cubicBezTo>
                  <a:lnTo>
                    <a:pt x="10799" y="-2700"/>
                  </a:lnTo>
                  <a:lnTo>
                    <a:pt x="14849" y="1350"/>
                  </a:lnTo>
                  <a:lnTo>
                    <a:pt x="10799" y="5400"/>
                  </a:lnTo>
                  <a:lnTo>
                    <a:pt x="10799" y="27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7"/>
            <p:cNvSpPr/>
            <p:nvPr/>
          </p:nvSpPr>
          <p:spPr>
            <a:xfrm flipH="1">
              <a:off x="1447920" y="914400"/>
              <a:ext cx="5790240" cy="5180760"/>
            </a:xfrm>
            <a:custGeom>
              <a:avLst/>
              <a:gdLst>
                <a:gd name="textAreaLeft" fmla="*/ 849600 w 5790240"/>
                <a:gd name="textAreaRight" fmla="*/ 4940640 w 5790240"/>
                <a:gd name="textAreaTop" fmla="*/ 760320 h 5180760"/>
                <a:gd name="textAreaBottom" fmla="*/ 4420440 h 51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00" y="10800"/>
                  </a:moveTo>
                  <a:cubicBezTo>
                    <a:pt x="2700" y="13392"/>
                    <a:pt x="3941" y="15828"/>
                    <a:pt x="6038" y="17353"/>
                  </a:cubicBezTo>
                  <a:lnTo>
                    <a:pt x="4451" y="19537"/>
                  </a:lnTo>
                  <a:cubicBezTo>
                    <a:pt x="1655" y="17505"/>
                    <a:pt x="0" y="14257"/>
                    <a:pt x="0" y="10800"/>
                  </a:cubicBezTo>
                  <a:lnTo>
                    <a:pt x="-2700" y="10800"/>
                  </a:lnTo>
                  <a:lnTo>
                    <a:pt x="1350" y="6750"/>
                  </a:lnTo>
                  <a:lnTo>
                    <a:pt x="5400" y="108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8"/>
            <p:cNvSpPr/>
            <p:nvPr/>
          </p:nvSpPr>
          <p:spPr>
            <a:xfrm flipH="1">
              <a:off x="1447920" y="914400"/>
              <a:ext cx="5790240" cy="5180760"/>
            </a:xfrm>
            <a:custGeom>
              <a:avLst/>
              <a:gdLst>
                <a:gd name="textAreaLeft" fmla="*/ 849600 w 5790240"/>
                <a:gd name="textAreaRight" fmla="*/ 4940640 w 5790240"/>
                <a:gd name="textAreaTop" fmla="*/ 760320 h 5180760"/>
                <a:gd name="textAreaBottom" fmla="*/ 4420440 h 51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cubicBezTo>
                    <a:pt x="13392" y="18899"/>
                    <a:pt x="15828" y="17658"/>
                    <a:pt x="17353" y="15561"/>
                  </a:cubicBezTo>
                  <a:lnTo>
                    <a:pt x="19537" y="17148"/>
                  </a:lnTo>
                  <a:cubicBezTo>
                    <a:pt x="17505" y="19944"/>
                    <a:pt x="14257" y="21599"/>
                    <a:pt x="10800" y="21600"/>
                  </a:cubicBezTo>
                  <a:lnTo>
                    <a:pt x="10800" y="24300"/>
                  </a:lnTo>
                  <a:lnTo>
                    <a:pt x="6750" y="20250"/>
                  </a:lnTo>
                  <a:lnTo>
                    <a:pt x="10800" y="16200"/>
                  </a:lnTo>
                  <a:lnTo>
                    <a:pt x="10800" y="189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9"/>
            <p:cNvSpPr/>
            <p:nvPr/>
          </p:nvSpPr>
          <p:spPr>
            <a:xfrm flipH="1">
              <a:off x="1447920" y="914400"/>
              <a:ext cx="5790240" cy="5180760"/>
            </a:xfrm>
            <a:custGeom>
              <a:avLst/>
              <a:gdLst>
                <a:gd name="textAreaLeft" fmla="*/ 849600 w 5790240"/>
                <a:gd name="textAreaRight" fmla="*/ 4940640 w 5790240"/>
                <a:gd name="textAreaTop" fmla="*/ 760320 h 5180760"/>
                <a:gd name="textAreaBottom" fmla="*/ 4420440 h 51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900" y="10800"/>
                  </a:moveTo>
                  <a:cubicBezTo>
                    <a:pt x="18900" y="8207"/>
                    <a:pt x="17658" y="5771"/>
                    <a:pt x="15561" y="4246"/>
                  </a:cubicBezTo>
                  <a:lnTo>
                    <a:pt x="17148" y="2062"/>
                  </a:lnTo>
                  <a:cubicBezTo>
                    <a:pt x="19944" y="4094"/>
                    <a:pt x="21599" y="7342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250" y="14850"/>
                  </a:lnTo>
                  <a:lnTo>
                    <a:pt x="16200" y="10800"/>
                  </a:lnTo>
                  <a:lnTo>
                    <a:pt x="1890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 rot="1343400">
              <a:off x="5207400" y="1125360"/>
              <a:ext cx="185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 rot="17802600">
              <a:off x="1731600" y="2434320"/>
              <a:ext cx="39816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0" bIns="4284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2"/>
            <p:cNvSpPr/>
            <p:nvPr/>
          </p:nvSpPr>
          <p:spPr>
            <a:xfrm rot="1755600">
              <a:off x="3169800" y="51800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3"/>
            <p:cNvSpPr/>
            <p:nvPr/>
          </p:nvSpPr>
          <p:spPr>
            <a:xfrm rot="17838600">
              <a:off x="6261480" y="4428000"/>
              <a:ext cx="397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WordArt 14"/>
          <p:cNvSpPr txBox="1"/>
          <p:nvPr/>
        </p:nvSpPr>
        <p:spPr>
          <a:xfrm>
            <a:off x="2819520" y="5181480"/>
            <a:ext cx="2352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  Mode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5"/>
          <p:cNvSpPr txBox="1"/>
          <p:nvPr/>
        </p:nvSpPr>
        <p:spPr>
          <a:xfrm>
            <a:off x="6324480" y="3886200"/>
            <a:ext cx="2352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  Rad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9" name="WordArt 16"/>
          <p:cNvSpPr txBox="1"/>
          <p:nvPr/>
        </p:nvSpPr>
        <p:spPr>
          <a:xfrm>
            <a:off x="3809880" y="838080"/>
            <a:ext cx="235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  Mode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0" name="WordArt 17"/>
          <p:cNvSpPr txBox="1"/>
          <p:nvPr/>
        </p:nvSpPr>
        <p:spPr>
          <a:xfrm>
            <a:off x="838080" y="2362320"/>
            <a:ext cx="2352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  Lea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1" name="AutoShape 18"/>
          <p:cNvSpPr/>
          <p:nvPr/>
        </p:nvSpPr>
        <p:spPr>
          <a:xfrm>
            <a:off x="0" y="5181480"/>
            <a:ext cx="2362320" cy="1371600"/>
          </a:xfrm>
          <a:prstGeom prst="wedgeRoundRectCallout">
            <a:avLst>
              <a:gd name="adj1" fmla="val 71236"/>
              <a:gd name="adj2" fmla="val -26620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Court Oath, Declaration of Rights of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9"/>
          <p:cNvSpPr/>
          <p:nvPr/>
        </p:nvSpPr>
        <p:spPr>
          <a:xfrm>
            <a:off x="5943600" y="5105520"/>
            <a:ext cx="2514600" cy="1447560"/>
          </a:xfrm>
          <a:prstGeom prst="wedgeRoundRectCallout">
            <a:avLst>
              <a:gd name="adj1" fmla="val -9407"/>
              <a:gd name="adj2" fmla="val -85745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gn of Terror, Committee of Public Safety, Robespierre, guill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0"/>
          <p:cNvSpPr/>
          <p:nvPr/>
        </p:nvSpPr>
        <p:spPr>
          <a:xfrm>
            <a:off x="6477120" y="228600"/>
            <a:ext cx="2361960" cy="990720"/>
          </a:xfrm>
          <a:prstGeom prst="wedgeRoundRectCallout">
            <a:avLst>
              <a:gd name="adj1" fmla="val -75203"/>
              <a:gd name="adj2" fmla="val 14745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1"/>
          <p:cNvSpPr/>
          <p:nvPr/>
        </p:nvSpPr>
        <p:spPr>
          <a:xfrm>
            <a:off x="228600" y="152280"/>
            <a:ext cx="2362320" cy="1371600"/>
          </a:xfrm>
          <a:prstGeom prst="wedgeRoundRectCallout">
            <a:avLst>
              <a:gd name="adj1" fmla="val 15791"/>
              <a:gd name="adj2" fmla="val 101157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oleon Bona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gricultural Revolution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hange – Hunting-Gathering to Farm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000 BC – 5000 B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River Civilizations (Fertile Cresc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:  glacial melt (wooly mammoth die), need steady foo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:  settle along rivers (silt, irrigation), increased populations, govt., new technology (new stone tools), religious buildings (ziggurats), wheels (pott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riv-vall"/>
          <p:cNvPicPr/>
          <p:nvPr/>
        </p:nvPicPr>
        <p:blipFill>
          <a:blip r:embed="rId1"/>
          <a:stretch/>
        </p:blipFill>
        <p:spPr>
          <a:xfrm>
            <a:off x="4038480" y="3733920"/>
            <a:ext cx="5105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French R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ation of Rights of 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poleonic C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d Nation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nd Empire (except England and Russia – scorched earth polic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ds with limited monarchy and social unrest “When France Sneezes Europe Catches a Cold” – 1848 unre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05320" y="1338120"/>
            <a:ext cx="58572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exican Revolution – 1810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hange from imperialism to nationalism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5867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use:  Spanish control over Latin America weakened when Bonaparte defeated, American Revolutionary example, social unrest causes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comiend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ystem (peninsulares had power, no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stizo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native america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 Player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dalg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creole priest – stirred up mestizos), Iturbide becomes president forced Spain to sign Treaty of Cordoba, Santa Anna (period of instability in government – “emperor” presiden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9" name="Picture 4" descr="Dh10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3724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6"/>
          <p:cNvSpPr/>
          <p:nvPr/>
        </p:nvSpPr>
        <p:spPr>
          <a:xfrm>
            <a:off x="6629400" y="3809880"/>
            <a:ext cx="2514600" cy="2837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– political freedom from Spain, but not social equality – no Bill of Rights, economics still dominated by European and American mercantalism/cash cro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Bolshevik or “Russian” Revolution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nge autocracy to communism - 1917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ses:  Czar Nicholas II (Romanov) was autocrat – created Duma (legislative body) but disbanded it; helped cause WW1 – but had not supplied troops – massive losses at Battle of Tanneburg Forest to Germans; poverty of people – both as peasant/serfs and newly industrialized peo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History of Loss – Crimean War 1855, Russo-Japanese War 19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lshevik Revolution (cont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 Person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n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ith slogan “Peace, Land &amp; Bread”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/Trotsk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eading Red Guard overthrew government – Marxi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:  Nicholas II killed, Lenin signs Treaty of Brest-Litovsk (ceding Poland and northeastern territories to Germany – leaves war), civil war between Whites (republican and non-socialists) and Reds;  introduces “War Communism” (stringent price control, forced labor) – which will lead to famines and depopulation of cities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5" name="Picture 4" descr="Lenin"/>
          <p:cNvPicPr/>
          <p:nvPr/>
        </p:nvPicPr>
        <p:blipFill>
          <a:blip r:embed="rId1"/>
          <a:stretch/>
        </p:blipFill>
        <p:spPr>
          <a:xfrm>
            <a:off x="7238880" y="609480"/>
            <a:ext cx="1346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501360" y="452880"/>
            <a:ext cx="5265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inese Communist Revolu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27-19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11 – Sun Yat Sen overthrew Qing dynasty (blaming it for losses in Opium W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27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iang Kai-Shek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llowed Sun as leader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uominta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arty – supported nationalism and democratic ideals. Mao Zedong supported by peasants was commun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34 – Chiang forces Mao on a Long March – many communist kill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W2 – unite to fight Jap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8" name="Picture 4" descr="China flag"/>
          <p:cNvPicPr/>
          <p:nvPr/>
        </p:nvPicPr>
        <p:blipFill>
          <a:blip r:embed="rId1"/>
          <a:stretch/>
        </p:blipFill>
        <p:spPr>
          <a:xfrm>
            <a:off x="304920" y="0"/>
            <a:ext cx="30099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Chinese R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o dominates supported by USS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es Cultural Revolution to get rid of op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es Great Leap Forward – communes, heavy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71" name="Picture 4" descr="maozedon"/>
          <p:cNvPicPr/>
          <p:nvPr/>
        </p:nvPicPr>
        <p:blipFill>
          <a:blip r:embed="rId1"/>
          <a:stretch/>
        </p:blipFill>
        <p:spPr>
          <a:xfrm>
            <a:off x="6858000" y="3733920"/>
            <a:ext cx="1863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ranian Revolution - 1979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uses:  British and Soviets p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h Reza Pahlav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place to avoid Iran joining Nazis. Shah favored secularization and modernization – used autocratic methods (like Ataturk – forbid eastern clothing, etc.); economics dominated by foreigners like 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 Terms: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yatollah Khomein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shiite caliph) promoted  reactionary Islamic fundamentalism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ran Hostage Cri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Islamic students captured 52 US citizens in Tehran held them for 444 days (turned over on day Reagan came to offi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:  established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lamic Fundamental St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Iran – Shariah laws, anti-western philosoph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apse of USSR – 1989/199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se – economic collapse after arms and space race; Gorbachev’s perestroika (limited privatization) and glasnost (freedom of speech – Chernobyl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s – Fall of Berlin W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lts – Unification of Germany, creation of 15 countries, economic problems for eastern Europe, Eastern European nations want to be part of Nato and E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testant Re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17 – Central Europe (Germany – Englan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Map/Still:World distribution of Protestant denominations."/>
          <p:cNvPicPr/>
          <p:nvPr/>
        </p:nvPicPr>
        <p:blipFill>
          <a:blip r:embed="rId1"/>
          <a:stretch/>
        </p:blipFill>
        <p:spPr>
          <a:xfrm>
            <a:off x="1676520" y="2514600"/>
            <a:ext cx="57909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testant Re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us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decrease power of Catholic Church (crusades failure, rising power of monarchs who angry at Catholic Church’s control – Henry VIII), abuses of church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dulgen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imony, lay investiture, wealth used wrongly), humanism (questioning spir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Key Play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rtin Lu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95 Theses (vernacular bible); John Calvin – predestination; Gutenberg’s printing 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esul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ended unity of Christianity, gave rise to movements to end “divine right” concept of kings (enlightenment) and sparked interest in non-Church controlled science (scientific revolu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mmercial Revolution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hange from barter economy to money economy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3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20-1650 –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e:  increase power of middle cla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ourgeoisi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nd interest in trade (tax for military), urbanization, need for raw materials, competition btw monar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:  banks,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joint-stock compan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xploration, capitalism,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ercantil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desiring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avorable balance of tr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access to bullion or capi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Players: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edi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asco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a G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gellan, Dutch East India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astrolabe"/>
          <p:cNvPicPr/>
          <p:nvPr/>
        </p:nvPicPr>
        <p:blipFill>
          <a:blip r:embed="rId1"/>
          <a:stretch/>
        </p:blipFill>
        <p:spPr>
          <a:xfrm>
            <a:off x="6934320" y="4876920"/>
            <a:ext cx="141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cientific Revolution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hange – Knowledge based on Church to knowledge based on inquir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50-1700 (Europe – especially France, Italy and Po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  decline of Church as dominating force (Protestant Reformation), Renaissance humanism, increased commercial interests (Age of Exploration and Imperial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 new technologies, rise of secularism (created spirit for enlighte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y Players in Scientific Rev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ncis Bacon – Scientific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ernicus – heliocentric model of unive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lileo – proved Copernicus through telescope (charged with heres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salius – studies anatomy through dis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estley – nature of oxygen and g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ton – calculus and laws of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painting of universe and scholar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MCj04124640000[1]"/>
          <p:cNvPicPr/>
          <p:nvPr/>
        </p:nvPicPr>
        <p:blipFill>
          <a:blip r:embed="rId1"/>
          <a:stretch/>
        </p:blipFill>
        <p:spPr>
          <a:xfrm>
            <a:off x="3581280" y="1066680"/>
            <a:ext cx="2667240" cy="2619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rarian Rev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1760" y="2908080"/>
            <a:ext cx="1981440" cy="890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701 – Jethro Tull’s Seed Dri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413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762120" y="3962520"/>
            <a:ext cx="2819160" cy="1066680"/>
          </a:xfrm>
          <a:prstGeom prst="rightArrowCallout">
            <a:avLst>
              <a:gd name="adj1" fmla="val 22687"/>
              <a:gd name="adj2" fmla="val 25000"/>
              <a:gd name="adj3" fmla="val 44049"/>
              <a:gd name="adj4" fmla="val 6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0s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762120" y="1447920"/>
            <a:ext cx="2971800" cy="1218960"/>
          </a:xfrm>
          <a:prstGeom prst="rightArrowCallout">
            <a:avLst>
              <a:gd name="adj1" fmla="val 25002"/>
              <a:gd name="adj2" fmla="val 25000"/>
              <a:gd name="adj3" fmla="val 40633"/>
              <a:gd name="adj4" fmla="val 6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00s Enclosure Mvmt. – by 1700s more popular in Engl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762120" y="5334120"/>
            <a:ext cx="2895480" cy="1143000"/>
          </a:xfrm>
          <a:prstGeom prst="rightArrowCallout">
            <a:avLst>
              <a:gd name="adj1" fmla="val 25002"/>
              <a:gd name="adj2" fmla="val 25000"/>
              <a:gd name="adj3" fmla="val 42220"/>
              <a:gd name="adj4" fmla="val 6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730 – Townshend suggest clover for crop ro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4724280" y="1600200"/>
            <a:ext cx="4572000" cy="45720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2743200" y="914400"/>
            <a:ext cx="4495680" cy="2895480"/>
          </a:xfrm>
          <a:prstGeom prst="cloudCallout">
            <a:avLst>
              <a:gd name="adj1" fmla="val 14513"/>
              <a:gd name="adj2" fmla="val 37828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ndless Farmers – need new job and new home (move to c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lts of Agrarian Rev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72" name="Content Placeholder 51202"/>
          <p:cNvGrpSpPr/>
          <p:nvPr/>
        </p:nvGrpSpPr>
        <p:grpSpPr>
          <a:xfrm>
            <a:off x="1128600" y="2094120"/>
            <a:ext cx="7602120" cy="3235680"/>
            <a:chOff x="1128600" y="2094120"/>
            <a:chExt cx="7602120" cy="3235680"/>
          </a:xfrm>
        </p:grpSpPr>
        <p:cxnSp>
          <p:nvCxnSpPr>
            <p:cNvPr id="273" name="_s1028"/>
            <p:cNvCxnSpPr>
              <a:stCxn id="274" idx="1"/>
              <a:endCxn id="275" idx="2"/>
            </p:cNvCxnSpPr>
            <p:nvPr/>
          </p:nvCxnSpPr>
          <p:spPr>
            <a:xfrm rot="10800000">
              <a:off x="4453920" y="4485600"/>
              <a:ext cx="283320" cy="5209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H="1" flipV="1" rot="5400000">
              <a:off x="2048040" y="3623760"/>
              <a:ext cx="182520" cy="288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0"/>
              <a:endCxn id="280" idx="2"/>
            </p:cNvCxnSpPr>
            <p:nvPr/>
          </p:nvCxnSpPr>
          <p:spPr>
            <a:xfrm flipH="1" flipV="1" rot="5400000">
              <a:off x="4957920" y="3030120"/>
              <a:ext cx="182520" cy="118980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82" idx="0"/>
              <a:endCxn id="283" idx="2"/>
            </p:cNvCxnSpPr>
            <p:nvPr/>
          </p:nvCxnSpPr>
          <p:spPr>
            <a:xfrm flipH="1" flipV="1" rot="5400000">
              <a:off x="7630920" y="3623760"/>
              <a:ext cx="182520" cy="252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4" name="_s1032"/>
            <p:cNvCxnSpPr>
              <a:stCxn id="283" idx="0"/>
              <a:endCxn id="285" idx="2"/>
            </p:cNvCxnSpPr>
            <p:nvPr/>
          </p:nvCxnSpPr>
          <p:spPr>
            <a:xfrm flipV="1" rot="16200000">
              <a:off x="6233760" y="1593000"/>
              <a:ext cx="184320" cy="279396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6" name="_s1033"/>
            <p:cNvCxnSpPr>
              <a:stCxn id="280" idx="0"/>
              <a:endCxn id="285" idx="2"/>
            </p:cNvCxnSpPr>
            <p:nvPr/>
          </p:nvCxnSpPr>
          <p:spPr>
            <a:xfrm flipV="1" rot="16200000">
              <a:off x="5194440" y="2632320"/>
              <a:ext cx="184320" cy="71496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7" name="_s1034"/>
            <p:cNvCxnSpPr>
              <a:stCxn id="278" idx="0"/>
              <a:endCxn id="285" idx="2"/>
            </p:cNvCxnSpPr>
            <p:nvPr/>
          </p:nvCxnSpPr>
          <p:spPr>
            <a:xfrm flipH="1" flipV="1" rot="5400000">
              <a:off x="3442680" y="1595160"/>
              <a:ext cx="184320" cy="279000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85" name="_s1035"/>
            <p:cNvSpPr/>
            <p:nvPr/>
          </p:nvSpPr>
          <p:spPr>
            <a:xfrm>
              <a:off x="3143880" y="2094120"/>
              <a:ext cx="3574080" cy="7905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ood Surplu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6"/>
            <p:cNvSpPr/>
            <p:nvPr/>
          </p:nvSpPr>
          <p:spPr>
            <a:xfrm>
              <a:off x="1248120" y="3096720"/>
              <a:ext cx="178164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re Peop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7"/>
            <p:cNvSpPr/>
            <p:nvPr/>
          </p:nvSpPr>
          <p:spPr>
            <a:xfrm>
              <a:off x="4752000" y="3096720"/>
              <a:ext cx="178164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cess Capit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038"/>
            <p:cNvSpPr/>
            <p:nvPr/>
          </p:nvSpPr>
          <p:spPr>
            <a:xfrm>
              <a:off x="6831000" y="3096720"/>
              <a:ext cx="178200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039"/>
            <p:cNvSpPr/>
            <p:nvPr/>
          </p:nvSpPr>
          <p:spPr>
            <a:xfrm>
              <a:off x="6711840" y="3730680"/>
              <a:ext cx="201888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w Marke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ed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Imperialism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40"/>
            <p:cNvSpPr/>
            <p:nvPr/>
          </p:nvSpPr>
          <p:spPr>
            <a:xfrm>
              <a:off x="3445200" y="3730680"/>
              <a:ext cx="201888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vest in Inventio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41"/>
            <p:cNvSpPr/>
            <p:nvPr/>
          </p:nvSpPr>
          <p:spPr>
            <a:xfrm>
              <a:off x="1128600" y="3730680"/>
              <a:ext cx="201924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ed More Stu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42"/>
            <p:cNvSpPr/>
            <p:nvPr/>
          </p:nvSpPr>
          <p:spPr>
            <a:xfrm>
              <a:off x="4752000" y="4683240"/>
              <a:ext cx="2054520" cy="64656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se of Bourgeois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pita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3:11:37Z</dcterms:created>
  <dc:creator>Teacher</dc:creator>
  <dc:description/>
  <dc:language>en-US</dc:language>
  <cp:lastModifiedBy>Lyons, Anne</cp:lastModifiedBy>
  <dcterms:modified xsi:type="dcterms:W3CDTF">2013-05-29T14:05:53Z</dcterms:modified>
  <cp:revision>14</cp:revision>
  <dc:subject/>
  <dc:title>Turning Points</dc:title>
</cp:coreProperties>
</file>